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8F5-010C-4E66-A174-4CDFE23A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32C5-C687-432E-9298-5BF10B5A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62E-F6B3-438A-8962-499FBCC2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E3C-D4F3-408D-B1B7-AC7F1D89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4A08-B5D3-4D40-97A8-4AD83629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3A01-95A6-4316-9F5D-7488824C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19B2-906A-43B5-97B2-2059D933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265-B7BB-4611-9231-ACF912E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CF0F-5B1C-419C-AD78-BFDE054D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20A7-D750-4B70-BC12-2829428F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1AEF-E63A-4BB0-AEF8-5B1C579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02E-7DF4-4ABD-BE8D-44190168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854-DEDF-4FBD-AF44-0BC21A01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926A-E05E-43D7-A170-A7FB046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FB33-AB9E-4597-AC48-D23533B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DB7E-C9EB-4A9D-B102-DA30431F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2EEC-3290-437A-B1B9-7CA17A9B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3AD3-E610-49D7-A1A9-652E8726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9363-CF80-4BB1-A960-98D21755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9939-3607-4577-B7A2-4EFC9445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EB67-9B51-4D6E-B161-0CF43209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8552-A38D-4397-80EC-E0EC693E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4BA-2633-419D-BC7B-A08590A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3771-5A8C-43A9-9C3D-D1DFB9AA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9F7F-BDA1-46D6-ADBB-A46F87B8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AACB-A0A7-4E04-BC60-3B74F2C3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4878-57BD-4BE7-83CB-2E0100B8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5F7D-0CC8-471F-84B5-BDB0BFC8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5F11-2A24-4B7A-AEEC-75E19877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A31C-5EC9-4B27-A2EC-EDABBAB3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DB2D-CADB-42A3-BD25-4888DAE0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48F2-B8CA-4166-AA46-F6341EED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C94F-9574-4D2D-883A-5078AB6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E1A-B235-4317-9A5C-8D1F76E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1051E-A4F1-4F85-86C8-F657DEBB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6AEF-A5D3-4DA4-AED9-B24536E8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7B2B-2D8B-48F9-A576-DFC0BBF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39AA-AAF6-458D-87E8-EE1A9667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2CA2-0D7A-477C-B000-C6B9BB9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A6E47-885D-43BB-BB69-FCFBF10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115DE-1916-4860-B2B0-6BFDF85E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B2AC-8CBD-4CA1-A386-AA7FAC75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90FF-006C-4C55-9B03-47D7761C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F1A3-60D1-4169-8D5E-2F3B24DC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38A-D566-4DA8-A736-0A625A7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164C-F3C4-467A-9D34-26D93A80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F8CAB-73AE-412A-81FA-F0C42537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24F91-9FB3-4195-A6CF-48334338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DB08-2D2B-45A9-8F0B-620EB6C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735E-7BD0-4D57-9BEE-55FC55A6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D9CC-5A70-43EB-9450-6404E0A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C7D3-333A-4815-A35D-E8C9450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6095-986B-4718-958D-D7EA930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48BD-F0CD-4E29-92EE-5DDF52D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58BE7-19E0-4B92-B460-851A2EA8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F1F-3621-4839-B458-826D02E2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C808-D7A5-4B65-9C25-1A16DF88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804-BB3D-4ADF-9F7F-AD9DDE4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3F7-215F-408B-95DB-9F493EF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C23-6CF4-48C8-9C55-B6A4A62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7C0D-38C5-4F6A-9C0F-872AD98DED69}" type="slidenum">
              <a:rPr b="0" lang="ro-RO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4E6-4A97-4DCE-8F9A-3870160C9195}" type="slidenum">
              <a:rPr b="0" lang="ro-RO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6F83-D29C-4B7A-9671-58DD14B012E1}" type="slidenum">
              <a:rPr b="0" lang="ro-RO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198-1819-465D-BB26-E62F49C4B90B}" type="slidenum">
              <a:rPr b="0" lang="ro-RO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FEF3-A758-4FF6-BBA4-E2627F88EDA8}" type="slidenum">
              <a:rPr b="0" lang="ro-RO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8059680" cy="1481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514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r. Asma Hassa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BBS, RM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6840" y="10666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90c5"/>
                </a:solidFill>
                <a:latin typeface="Arial Narrow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linical diagnosi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cc"/>
                </a:solidFill>
                <a:latin typeface="Arial Black"/>
              </a:rPr>
              <a:t>SEVERE → ACUTE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: severe distressing pain that necessitates terminations of pregnancy (rare type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cc"/>
                </a:solidFill>
                <a:latin typeface="Arial Black"/>
              </a:rPr>
              <a:t>MODERATE</a:t>
            </a: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- </a:t>
            </a:r>
            <a:r>
              <a:rPr b="1" lang="en-US" sz="2700" spc="-1" strike="noStrike">
                <a:solidFill>
                  <a:srgbClr val="9900cc"/>
                </a:solidFill>
                <a:latin typeface="Arial Black"/>
              </a:rPr>
              <a:t>MILD → CHRONIC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: more common, symptoms are gradual and tolerabl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Dyspnea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palpitation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 (raising the diaphragm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Edema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  in the lower limbs (↑pressure on the pelvic veins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Marked abdominal enlargemen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Easy 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fatigability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, abdominal and lumbar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 pain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indiges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00cc"/>
                </a:solidFill>
                <a:latin typeface="Arial Black"/>
              </a:rPr>
              <a:t>SIGN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Uterus is globular  (normally ovoid) and larger than expected siz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Uterus ► tens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kin ► stretched and shi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Fetal parts ► not easily fel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Dificulty in defining presen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Fetal heart ► not easily hear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1012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1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Arial Narrow"/>
              </a:rPr>
              <a:t>        </a:t>
            </a:r>
            <a:r>
              <a:rPr b="1" lang="en-US" sz="3700" spc="-1" strike="noStrike">
                <a:solidFill>
                  <a:srgbClr val="9900cc"/>
                </a:solidFill>
                <a:latin typeface="Arial Black"/>
              </a:rPr>
              <a:t>Laboratory test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1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nograp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y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490c5"/>
              </a:buClr>
              <a:buSzPct val="73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490c5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a2e4e"/>
                </a:solidFill>
                <a:latin typeface="Arial Black"/>
              </a:rPr>
              <a:t>CONFIRM DIAGNOSIS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490c5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a2e4e"/>
                </a:solidFill>
                <a:latin typeface="Arial Black"/>
              </a:rPr>
              <a:t>Diagnosis of multiple pregnancy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490c5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a2e4e"/>
                </a:solidFill>
                <a:latin typeface="Arial Black"/>
              </a:rPr>
              <a:t>Diagnosis of congenital anomalies as anencephaly, spina bif</a:t>
            </a:r>
            <a:r>
              <a:rPr b="0" lang="arn-CL" sz="3300" spc="-1" strike="noStrike">
                <a:solidFill>
                  <a:srgbClr val="8a2e4e"/>
                </a:solidFill>
                <a:latin typeface="Arial Black"/>
              </a:rPr>
              <a:t>i</a:t>
            </a:r>
            <a:r>
              <a:rPr b="0" lang="en-US" sz="3300" spc="-1" strike="noStrike">
                <a:solidFill>
                  <a:srgbClr val="8a2e4e"/>
                </a:solidFill>
                <a:latin typeface="Arial Black"/>
              </a:rPr>
              <a:t>d</a:t>
            </a:r>
            <a:r>
              <a:rPr b="0" lang="en-US" sz="3300" spc="-1" strike="noStrike">
                <a:solidFill>
                  <a:srgbClr val="8a2e4e"/>
                </a:solidFill>
                <a:latin typeface="Arial Black"/>
              </a:rPr>
              <a:t>a, gastrointestinal tract anomaly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490c5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a2e4e"/>
                </a:solidFill>
                <a:latin typeface="Arial Black"/>
              </a:rPr>
              <a:t>Macrosomia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493040" cy="731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990720"/>
            <a:ext cx="78487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 Black"/>
              </a:rPr>
              <a:t>Radiograph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 large radiolucent area around the fetal skeleton         polyhydramnios,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encephaly and other gross skeletal defec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 Black"/>
              </a:rPr>
              <a:t>Amniography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y identify excess of amniotic fluid and the presence or absence of fetal swallowing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ight Arrow 4"/>
          <p:cNvSpPr/>
          <p:nvPr/>
        </p:nvSpPr>
        <p:spPr>
          <a:xfrm>
            <a:off x="3733920" y="2362320"/>
            <a:ext cx="533160" cy="3045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1281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 Black"/>
              </a:rPr>
              <a:t>Other test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FP evalu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ti-Rh antibodies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xoplasma detection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lucose level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1128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763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00cc"/>
                </a:solidFill>
                <a:latin typeface="Arial Black"/>
              </a:rPr>
              <a:t>Differential diagnosi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ultiple pregnanc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fetal macrosomi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varian cyst with abdominal loc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scit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 full bladder.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750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 Black"/>
              </a:rPr>
              <a:t>Prognosis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Maternal </a:t>
            </a:r>
            <a:r>
              <a:rPr b="0" lang="en-US" sz="3200" spc="-1" strike="noStrike">
                <a:solidFill>
                  <a:srgbClr val="d490c5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lacental abruption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terine dysfunctio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tpartum hemorrhag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Fetal</a:t>
            </a:r>
            <a:r>
              <a:rPr b="0" lang="en-US" sz="3200" spc="-1" strike="noStrike">
                <a:solidFill>
                  <a:srgbClr val="d490c5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d490c5"/>
                </a:solidFill>
                <a:latin typeface="Arial Narro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tal malformations -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5-20%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o-RO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ternal diabete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lapse of the umbilical cord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eterm delivery (PROM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2209680" y="2133720"/>
            <a:ext cx="533520" cy="0"/>
          </a:xfrm>
          <a:prstGeom prst="line">
            <a:avLst/>
          </a:prstGeom>
          <a:ln w="9360">
            <a:solidFill>
              <a:srgbClr val="d490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2209680" y="2209680"/>
            <a:ext cx="533520" cy="457200"/>
          </a:xfrm>
          <a:prstGeom prst="line">
            <a:avLst/>
          </a:prstGeom>
          <a:ln w="9360">
            <a:solidFill>
              <a:srgbClr val="d490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2133720" y="2133720"/>
            <a:ext cx="533160" cy="990360"/>
          </a:xfrm>
          <a:prstGeom prst="line">
            <a:avLst/>
          </a:prstGeom>
          <a:ln w="9360">
            <a:solidFill>
              <a:srgbClr val="d490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676520" y="4038480"/>
            <a:ext cx="533160" cy="0"/>
          </a:xfrm>
          <a:prstGeom prst="line">
            <a:avLst/>
          </a:prstGeom>
          <a:ln w="9360">
            <a:solidFill>
              <a:srgbClr val="d490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1600200" y="4038480"/>
            <a:ext cx="533520" cy="457200"/>
          </a:xfrm>
          <a:prstGeom prst="line">
            <a:avLst/>
          </a:prstGeom>
          <a:ln w="9360">
            <a:solidFill>
              <a:srgbClr val="d490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1600200" y="4038480"/>
            <a:ext cx="533520" cy="914400"/>
          </a:xfrm>
          <a:prstGeom prst="line">
            <a:avLst/>
          </a:prstGeom>
          <a:ln w="9360">
            <a:solidFill>
              <a:srgbClr val="d490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1600200" y="4114800"/>
            <a:ext cx="533520" cy="1523880"/>
          </a:xfrm>
          <a:prstGeom prst="line">
            <a:avLst/>
          </a:prstGeom>
          <a:ln w="9360">
            <a:solidFill>
              <a:srgbClr val="d490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836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22824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 Black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spitalization, bed res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-steroidal anti-inflammatory drugs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omethac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vere cases → repea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niocent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relieve the ten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ld to moderate hydramnios: rarely requires treat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iuretics, water and salt restrictio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Acute case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→ TERMINATION OF PREGNAN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1012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xcessive amount of amniotic fluid &gt; 2 L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AutoShape 4"/>
          <p:cNvSpPr/>
          <p:nvPr/>
        </p:nvSpPr>
        <p:spPr>
          <a:xfrm rot="9569400">
            <a:off x="3417120" y="3429000"/>
            <a:ext cx="733320" cy="914400"/>
          </a:xfrm>
          <a:custGeom>
            <a:avLst/>
            <a:gdLst>
              <a:gd name="textAreaLeft" fmla="*/ 98280 w 733320"/>
              <a:gd name="textAreaRight" fmla="*/ 635040 w 7333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1012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ac6"/>
                </a:solidFill>
                <a:latin typeface="Arial Narrow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490c5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ACUT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 Symptoms are severe as accumulation rate is rapid and uterus is distended rapidly. Pregnancy ends before 28 week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 is an 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OBSTERICAL EMERGENCY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CHRONI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 More common in the 2-nd half of pregnancy. The rate of collection is slow so uterus may reach a bigger size than acute type but symptoms are not so sever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92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Polyhydramnios"/>
          <p:cNvPicPr/>
          <p:nvPr/>
        </p:nvPicPr>
        <p:blipFill>
          <a:blip r:embed="rId2"/>
          <a:stretch/>
        </p:blipFill>
        <p:spPr>
          <a:xfrm>
            <a:off x="1219320" y="990720"/>
            <a:ext cx="6476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834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142640"/>
            <a:ext cx="75438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0ac6"/>
                </a:solidFill>
                <a:latin typeface="Arial Narrow"/>
              </a:rPr>
              <a:t>Fetal cause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Twin to twin transfusion syndro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entral nervous system abnormalit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Esophageal blockag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High gut obstr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Thoracic tumo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Myotonic dystroph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are condi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herited disorders of renal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etal / placental tum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-19080" y="96840"/>
            <a:ext cx="9169560" cy="836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90c5"/>
                </a:solidFill>
                <a:latin typeface="Arial Narrow"/>
              </a:rPr>
              <a:t>      </a:t>
            </a:r>
            <a:r>
              <a:rPr b="1" lang="en-US" sz="4800" spc="-1" strike="noStrike">
                <a:solidFill>
                  <a:srgbClr val="9900cc"/>
                </a:solidFill>
                <a:latin typeface="Arial Narrow"/>
              </a:rPr>
              <a:t>Maternal cause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ternal diabet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h Iso-immuniz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fections: CMV, Toxoplasmosis,  Syphil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eart disea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e-eclampsi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-212760" y="146160"/>
            <a:ext cx="8601120" cy="920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2282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</a:rPr>
              <a:t>Defect in amniotic fluid resorbtion - 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problems with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wallowing 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gastrointestinal  passag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</a:rPr>
              <a:t>Increased transsudation</a:t>
            </a: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cerebrospinal</a:t>
            </a: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fluid: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                          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anencephaly                     spina bifida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</a:rPr>
              <a:t>Excess fetal urine</a:t>
            </a:r>
            <a:r>
              <a:rPr b="0" lang="en-US" sz="33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nencephaly (lack of ADH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 stimulation of urination centers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Narrow"/>
              </a:rPr>
              <a:t>Excess lung fluid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 - 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hypoplastic lun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Line 5"/>
          <p:cNvSpPr/>
          <p:nvPr/>
        </p:nvSpPr>
        <p:spPr>
          <a:xfrm flipH="1">
            <a:off x="2568600" y="324324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4462560" y="320040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1182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PERI094"/>
          <p:cNvPicPr/>
          <p:nvPr/>
        </p:nvPicPr>
        <p:blipFill>
          <a:blip r:embed="rId2"/>
          <a:stretch/>
        </p:blipFill>
        <p:spPr>
          <a:xfrm>
            <a:off x="457200" y="1600200"/>
            <a:ext cx="4753080" cy="3143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1442880" y="5027760"/>
            <a:ext cx="2233800" cy="368280"/>
          </a:xfrm>
          <a:prstGeom prst="rect">
            <a:avLst/>
          </a:prstGeom>
          <a:solidFill>
            <a:srgbClr val="d490c5"/>
          </a:solidFill>
          <a:ln w="9360">
            <a:solidFill>
              <a:srgbClr val="d49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PINA BIF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3"/>
          <a:stretch/>
        </p:blipFill>
        <p:spPr>
          <a:xfrm>
            <a:off x="5486400" y="1600200"/>
            <a:ext cx="3009960" cy="46004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6095880" y="6248520"/>
            <a:ext cx="2376720" cy="368280"/>
          </a:xfrm>
          <a:prstGeom prst="rect">
            <a:avLst/>
          </a:pr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NENCEPHA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498160" cy="750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PERI096"/>
          <p:cNvPicPr/>
          <p:nvPr/>
        </p:nvPicPr>
        <p:blipFill>
          <a:blip r:embed="rId2"/>
          <a:stretch/>
        </p:blipFill>
        <p:spPr>
          <a:xfrm>
            <a:off x="457200" y="1219320"/>
            <a:ext cx="3527280" cy="5180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PERI097"/>
          <p:cNvPicPr/>
          <p:nvPr/>
        </p:nvPicPr>
        <p:blipFill>
          <a:blip r:embed="rId3"/>
          <a:stretch/>
        </p:blipFill>
        <p:spPr>
          <a:xfrm>
            <a:off x="5562720" y="1295280"/>
            <a:ext cx="3009960" cy="4600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4038480" y="6019920"/>
            <a:ext cx="4176720" cy="368280"/>
          </a:xfrm>
          <a:prstGeom prst="rect">
            <a:avLst/>
          </a:prstGeom>
          <a:solidFill>
            <a:srgbClr val="d49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NENCEPHA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2:59:36Z</dcterms:created>
  <dc:creator>Ana</dc:creator>
  <dc:description/>
  <dc:language>en-US</dc:language>
  <cp:lastModifiedBy>Grace</cp:lastModifiedBy>
  <dcterms:modified xsi:type="dcterms:W3CDTF">2019-01-20T18:47:09Z</dcterms:modified>
  <cp:revision>48</cp:revision>
  <dc:subject/>
  <dc:title>POLYHYDRAMNIOS</dc:title>
</cp:coreProperties>
</file>